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E2BF-3373-43E8-BA8A-5693F590CE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FC5C7-FA0E-4C76-BCA4-7C80B960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A9C32-C718-4905-80EC-8C154968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E2FC-6C7F-436B-8036-3A73E519EB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0F088-D73D-40CD-B2BC-D619F673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8168D-E0D2-415A-8B42-0EF90ED8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6B8E2-FF31-4369-8F33-6442A406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B5C95-E688-4980-AE25-32DF5732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9D859-3E8E-4DDE-849A-543D6790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1FA8A-585F-4BAF-9CDA-78F8320E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35B49-F4A7-422B-82F7-6D5CFD94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48C9B-B549-4293-A327-668ADEFD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7F2B7-2680-45D8-8DEB-C649F681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3F32E-D169-4665-988A-75199717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5F167-0499-4CB2-9691-DAE80274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06CD7-DA27-418C-80A2-E4A2DD5B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BE6E8-BB9C-4F25-927F-853DDED8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9C3BD-F844-47AC-BD21-506087DD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CC9E6-CE37-4179-B726-A4839AF9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5378-75D9-46AD-B2DF-D55AA997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0A9BC-7AFB-46DA-B4F2-543FA48E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1C4B-6326-4EE4-874D-0515227A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503C0-6D70-4EA8-9509-DC70599B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CD8F-B3BF-4E01-B072-2645FBA0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60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spcBef>
                <a:spcPts val="60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3" marL="1693800" indent="-387360">
              <a:spcBef>
                <a:spcPts val="601"/>
              </a:spcBef>
              <a:buClr>
                <a:srgbClr val="6699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4" marL="2093760" indent="-398160">
              <a:spcBef>
                <a:spcPts val="601"/>
              </a:spcBef>
              <a:buClr>
                <a:srgbClr val="bc8b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4F20-902A-4F92-A9C1-90543D945954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09480" y="1523880"/>
            <a:ext cx="7620120" cy="1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2480" y="990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5F06-6880-4AE2-8BFB-952318BEA2C3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7620120" cy="14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909720" algn="ctr">
              <a:spcBef>
                <a:spcPts val="45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3" marL="1306440" algn="ctr"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4" marL="1695600" algn="ctr">
              <a:spcBef>
                <a:spcPts val="561"/>
              </a:spcBef>
              <a:buClr>
                <a:srgbClr val="bc8b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5" marL="1695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6" marL="1695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he Tenet Architecture for Tiered Sensor Network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O. Gnawali, B. Greenstein, K-Y. Jang, A. Joki, J. Paek, M. Viera, D. Estrin, R. Govindan, E. Kohler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USC, UCL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SenSys 2006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hree Task Operation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 new I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dific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n existing ID and a bod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ele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n existing ID and no bod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active containers associated with a task are destroye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031E7-D999-4B86-983A-06EA72BF75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xample Task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Blink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ntToLedsAndRf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ing and MeasureHeap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nseToRf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8381880" cy="268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3880" y="3048120"/>
            <a:ext cx="598176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82584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33520" y="5257800"/>
            <a:ext cx="802944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33520" y="5562720"/>
            <a:ext cx="741996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9C9A-57F3-4F9D-A5CB-42A9C5CF34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Data Fusion Exampl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ke 10 samples, timestamp i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assify as interesting if 3 or more samples &gt; 45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lculates the deviation from the running mea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isplays the sample on the LED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nds the statistic, timestamp, and sample if interes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680076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1B31-E351-43B8-A989-F37A37FE2C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Network Subsystem Requiremen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ust support different applications on tiered networ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outing must be robust and scalab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aster-to-mot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te-to-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Small memory footpri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sks must be reliably disseminated from any master to all mo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sults must be delivered with end-to-end reli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D2D9-0EF5-4602-B3ED-790C8D9A6B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Addressing and Routing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Every mote and master has a globally unique 16-bit addr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tes use TinyOS addres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sters use last 16-bits of IP addres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aster-to-master: IP rou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te-to-master: tiered rou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First route to nearest master, then to destination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Use standard WSN tree-routing protocol like MintRout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3353-3DD9-4908-A9A2-1DF4BBCA63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iered Task Dissemin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liably floods tasks to all mo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Partial network re-tasking achieved using a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predicate taskle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mplemented in a generic packet flooding protocol called TR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liably floods packets to all nodes (both motes and masters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ed on beaconing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95E64-9E07-4FA3-9E4F-315F4E2852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Reliable Transport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ransmits responses from motes to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liable transactiona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eam transport for high data rate applica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ll use hop-by-hop retransmission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reliable protocols use a simplified version of TCP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0762-1EE9-425F-86CD-A71C545B91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Summary of Novel Networking Mech.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663040" cy="40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FBD5-92D5-44D3-AAD2-2AF992CC1A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valution: Concurrenc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How many tasks can a tmote support at once?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7048800" cy="885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38080" y="3753000"/>
            <a:ext cx="6534360" cy="142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18960" y="2217600"/>
            <a:ext cx="874872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B344E-D9AE-4CA3-B8D1-50957C2B30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57340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xecution Tim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4191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st CPU-intensive tasklet,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</a:rPr>
              <a:t>GatherStatistics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, can process 1200 samples in 14.8m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PU-bound max sampling rate is 81,000 samples per secon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286000" y="281952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0675B-DDB8-43D3-991E-F4C849888F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he Tenet Two-Tier Architectur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4723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tes and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ulti-node data fusion done on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asters program motes using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724280" cy="28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1ECC-6866-49B0-ABEE-3F17B7AF98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Application: PEG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EG = Pursuit-Evasion Gam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ne or more pursuers collaborate to corral one or more evader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Use WSN to help pursuers detect non-line-of-sight evad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ative implementation uses a leader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ultiple nodes sense the evader, leader fuses the dat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ess tests Tenet (no mote-level fusion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implementation adjusts the detection threshol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D27C1-8E85-4C9D-8A7A-CD796C6A88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PEG Experimental Setup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56 tmotes, 6 stargat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implifica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vader detected using RSSI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Radio t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ansmit power limited to achieve multihop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lnSpc>
                <a:spcPct val="90000"/>
              </a:lnSpc>
              <a:spcBef>
                <a:spcPts val="400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9-hop diameter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ne evader, one stationary pursuer on central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743200" y="1752480"/>
            <a:ext cx="3429000" cy="21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070D-92D6-4221-B105-970401CE15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86400" y="4876920"/>
            <a:ext cx="3124080" cy="122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PEG Evalu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4419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has higher accuracy but higher latenc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has lower message overhea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3257280" cy="2482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724280" y="1828800"/>
            <a:ext cx="3124440" cy="234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6F30-9D2A-4AB3-9361-27FCA993F7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Vibration Monitoring Case Stud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used to implement Wisde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3909960" cy="299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4419720" cy="485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867280" y="32004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ctOnSet reduces network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et simplifies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4E5B4-0D7A-4E60-AD4A-476E8242E7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Manageabilit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following task can be used to capture the routing trees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s can be used to evaluate the task dissemination latency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2629080"/>
            <a:ext cx="6305400" cy="266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676520" y="3828960"/>
            <a:ext cx="53625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43000" y="4267080"/>
            <a:ext cx="682956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54C6-67CA-4F79-B5E6-96A5427EA0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Robustnes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ailure of a master forces routing algorithm to adjus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5486400" cy="3343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61243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5DD61-1449-4756-A35C-7287FF7738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Future Work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ar ter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ctuati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te-tier storag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unded-latency communicati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ong ter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mpact of disconnection due to mobi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uthentic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ulti-user control and resource manageme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5D55D-1573-4949-B37A-5EF1A8A137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Conclus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simplifies programming while not significantly increasing overhea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FB74-A912-433D-BE1C-9DF9F52F9D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Applic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Pursuit-Eva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Pursuer mobile robots chase after evader robots with the help of a sensor network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Traditional implementation employs mote-tier data aggregation to reduce redundant evader repor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D9BC-66E2-473A-B7EE-A2AACC1C7F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Componen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omposable taskle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Reliable task dissemination protoco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Data transport mechanism (3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Inter-tier routing subsyste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A279-42DB-4794-8AA3-DDB00D0CB6C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Example Task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Notify application when temperature &gt; 50F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 task contains an arbitrary number of tasklets linked together.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824544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076A2-93C7-45F7-829D-227AD33E1B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Motiv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st sensor network architectures support multi-node in-network data fu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Increased complex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Reduced manageabi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55EB-32E3-48E5-9AD5-B80DD5F576B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Desig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enet limits multi-node data fusion to the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an perform more sophisticated fusion algorithm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Larger contex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 better decis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DEB84-44A1-4475-8E63-3F5ABF2605E6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Efficiency Cos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Opportunity cost of multi-mote data fu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otes can still fuse locally-generated dat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spcBef>
                <a:spcPts val="45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Sensor data have high temporal but low spatial redundancy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re data routed to the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A well-designed WSN will have a small diame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Higher conges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Application parameters can be tuned, e.g., only high-confidence pursuers report to master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44F3-C8E0-4819-B2D4-61A6A8018A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Five Design Principle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symmetric Task Communic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aster send mote tasks, mote send master reply, mote cannot initiate tasks (no inter-mote communication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ddress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asters can talk to each other, any master can talk to any mote, a mote can reply to its tasking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Each task is a subset of a mote’s generic functiona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Resilience to extensive network failur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anage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Tools must offer useful insight into network failur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D5795-20A2-4111-AB45-CEBC5B1D12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Task and Task Librar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Focus on simplicity rather than expressiven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 task is composed of tasklets, which are parameterized servic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Linear composi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lets maximize flexibility while remaining simp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Each task has a unique ID, a list of tasklets, and their parame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 composed at compile-time due to TinyO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924680" cy="2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5D771-5675-4D8A-8482-3CBD58FB6B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askle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5105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n be composed into a wide range of tas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48632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AD0F-6FCE-4A18-824E-4EB6BC58B7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ask Data Structur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43434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s are dynamically allocate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ctive Containers hold task data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loned when a tasklet repea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29000" cy="265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43000" y="5562720"/>
            <a:ext cx="6878520" cy="563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43400" y="1828800"/>
            <a:ext cx="26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ttributes are 3-tu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tag, length, 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A083-63EB-4238-92BB-A3DEF0B6F6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</a:t>
            </a: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he Mote Runtim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sk-aware queues used by services (e.g., wait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scheduler operates at tasklet-level granular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ows multiple tasks to execute concurrentl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A1D5-594A-4687-867D-08E480BA53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6:50:13Z</dcterms:created>
  <dc:creator>julien</dc:creator>
  <dc:description/>
  <dc:language>en-US</dc:language>
  <cp:lastModifiedBy>Sun Fei</cp:lastModifiedBy>
  <dcterms:modified xsi:type="dcterms:W3CDTF">2006-09-22T18:36:16Z</dcterms:modified>
  <cp:revision>645</cp:revision>
  <dc:subject/>
  <dc:title>Slide 1</dc:title>
</cp:coreProperties>
</file>